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1C1-01D5-4B7D-8C71-333D9422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0B5-1ACF-418D-84D4-223C34E1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36D-2F84-4022-87C5-EC6D7AE5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402-7990-4AF1-93E1-E00FBFCD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A52-AB62-4E15-B380-29C1643D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A63-4E01-4FE5-A974-A9F230B3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7AF-00B3-4DC4-921B-D5934B42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7FC-D770-4229-BB2F-36B0336B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001-2B5C-44D9-8371-DB7997EA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1BD-113A-4639-BFED-6B125C1D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BC9-EE99-4E99-AD2E-BCF6C7FD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4E0-5070-4130-B2A0-06A9412C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2C38-191B-4A5A-9DA0-51AEC7982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476280"/>
            <a:ext cx="784836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Много хора питат ме навсякъде в света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"Защо не стават чудеса както някога?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Но вярвам днес на таз земя Бог върши чудеса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защото Той е същият както няког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4360" y="404640"/>
            <a:ext cx="826128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ърши Бог чудеса и сега и сег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Той е пак Същият, както е бил пре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чера, днес, всякога, Той остава Същи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ние вярваме сега, върши Бог чудес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1341360"/>
            <a:ext cx="8505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Трябва свойте нужди  да кажеш на Христ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Бог иска в теб да има вяра всяког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Той ще ти помогне, ще те освобо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от днес не се съмнявай, в Него вярвяй 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14360" y="404640"/>
            <a:ext cx="826128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ърши Бог чудеса и сега и сег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Той е пак Същият, както е бил пре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чера, днес, всякога, Той остава Същи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ние вярваме сега, върши Бог чудес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40:42Z</dcterms:created>
  <dc:creator>TrifonTrifonow</dc:creator>
  <dc:description/>
  <dc:language>en-US</dc:language>
  <cp:lastModifiedBy>TrifonTrifonow</cp:lastModifiedBy>
  <dcterms:modified xsi:type="dcterms:W3CDTF">2005-12-15T20:40:58Z</dcterms:modified>
  <cp:revision>1</cp:revision>
  <dc:subject/>
  <dc:title>Slide 1</dc:title>
</cp:coreProperties>
</file>